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BA9F-038A-4D27-BE16-F652551A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6110-F0C4-4C71-B87C-634857DE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24C5-96DF-4ED9-B37E-2A5FF9FA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8ECB-5D89-435A-AD62-1F5A6296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1A36-CD03-496F-9E6F-3AD717AE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2175-8361-4A68-A9BD-B71706F1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BDB6-42FA-4B10-9E39-AFE4B5D1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0F37-A4CE-47B7-BB0F-26007A16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C04F-3675-4186-B585-130E84D6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8323-5051-4558-8AFD-957BD31F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16F2-CB76-41E2-8195-4CD00AD8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6FA6-265E-4478-80EA-0F01CC37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5F07-F872-40ED-8D39-5F0EDA02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8E80-76D2-4186-A60F-025889BB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653E-DBC1-4BE0-B09A-13A06FDC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9DD6-3289-4CBC-82F4-ACC61F10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A549-78E0-4165-96BD-5E0E3C17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B333-B426-4206-A34B-94304082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0389-C89C-41EC-B38B-F7724118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1E23-5349-4523-B2DA-A77CAEBE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870-7E13-404C-B192-57CA7F70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4FB1-45DA-4BDD-A1B6-788BE587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E0C8-D6A4-4CBF-8D1D-48F1D136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A7A9-7133-4413-8B06-C21D8110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a3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B9B2-00B2-49DB-8D9E-C6F97D3A8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a3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6B2B-BC85-434A-ACAE-DFCA9C939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2:08:21Z</dcterms:created>
  <dc:creator>Bonnie Ritchey</dc:creator>
  <dc:description/>
  <dc:language>en-US</dc:language>
  <cp:lastModifiedBy>Bonnie Ritchey</cp:lastModifiedBy>
  <dcterms:modified xsi:type="dcterms:W3CDTF">2004-05-04T02:08:44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0971033</vt:lpwstr>
  </property>
</Properties>
</file>